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385-D0A3-476A-9F9D-354D6FED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057-96DB-4BE3-BC3B-795912F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01C-B391-43EB-A85A-1F8E8F2A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31D-6AE2-47C7-BFD3-3A72C313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F48-40D0-40F4-AD46-CA1F74AA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2370-9590-4AFA-BD04-CA31D1B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A01-B173-4F0C-B12C-E5B7480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1425-2AEF-4958-8F38-243C2285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D576-E3AC-401F-8C8D-8D9DC804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1CE-5996-481E-AB89-6B0B4208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439-8CE7-44FE-885E-CE70297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251-422C-4861-89DA-C7D47126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E7D0-940B-4B36-A67E-26D2DEC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50F2-9BD1-4D07-8794-7822E3D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D98-EE58-4AEF-BB4E-B15F57F1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EC0-4E7B-4F29-AE3A-F973F3EF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AC1E-34C4-4279-980B-026084C6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B80-7C4F-4517-A62E-0783256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F4E-DEEA-47B0-920A-CBFB2C5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896-91E4-46DC-97CA-84916EE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B30-9F12-49C8-A32F-F3C3163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4D5-2E45-4EC3-989E-3A4E3E26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15C-A170-4FCC-AEB8-D6DEB61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C56-D44E-4BE8-9A91-18B50B7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F89A-7078-4AFC-913C-2268F8F3DE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9C2-B706-433D-BAE0-F6027ED0FF5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ff"/>
                </a:solidFill>
                <a:latin typeface="Georgia"/>
                <a:ea typeface="Aharoni"/>
              </a:rPr>
              <a:t>Laminitis</a:t>
            </a:r>
            <a:r>
              <a:rPr b="1" i="1" lang="en-US" sz="3600" spc="-1" strike="noStrike">
                <a:solidFill>
                  <a:srgbClr val="ccecff"/>
                </a:solidFill>
                <a:latin typeface="Georgia"/>
                <a:ea typeface="Aharoni"/>
              </a:rPr>
              <a:t>  </a:t>
            </a:r>
            <a:br>
              <a:rPr sz="3600"/>
            </a:br>
            <a:r>
              <a:rPr b="0" i="1" lang="en-US" sz="2400" spc="-1" strike="noStrike">
                <a:solidFill>
                  <a:srgbClr val="ffffff"/>
                </a:solidFill>
                <a:latin typeface="Georgia"/>
                <a:ea typeface="Aharoni"/>
              </a:rPr>
              <a:t>(Founder, Sinking)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Aharoni"/>
              </a:rPr>
              <a:t>Assist. Prof;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Georgia"/>
                <a:ea typeface="Aharoni"/>
              </a:rPr>
              <a:t>Dr. Ahmed. H. F. AL-Bayati</a:t>
            </a:r>
            <a:br>
              <a:rPr sz="2400"/>
            </a:b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Aharoni"/>
              </a:rPr>
              <a:t>College of Veterinary Medicine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Aharoni"/>
              </a:rPr>
              <a:t>Baghdad Universit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6. 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Corticosteroid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injection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7.  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Nerve block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(Median or Volar nerv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8.  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Anti-tetanic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ser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9. 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Washing or soaking of foot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with 10% sodium sulfa-pyrid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10.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Corrective shoeing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(lowering heel, rasping the quarter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11.  Forced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exercise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to promote venous blood flow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ocal anesthesia or nerve block may help if pain sever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)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12. Administration of </a:t>
            </a:r>
            <a:r>
              <a:rPr b="1" i="1" lang="en-US" sz="1800" spc="-1" strike="noStrike">
                <a:solidFill>
                  <a:srgbClr val="ff66ff"/>
                </a:solidFill>
                <a:latin typeface="Georgia"/>
              </a:rPr>
              <a:t>Biotin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(5.5mg/10kg), to release of sulphur containing amino acids to stimulate hoof grow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Always unfavo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66ff"/>
                </a:solidFill>
                <a:latin typeface="Georgia"/>
                <a:ea typeface="Aharoni"/>
              </a:rPr>
              <a:t>Laminitis</a:t>
            </a:r>
            <a:r>
              <a:rPr b="1" i="1" lang="en-US" sz="2800" spc="-1" strike="noStrike">
                <a:solidFill>
                  <a:srgbClr val="ccecff"/>
                </a:solidFill>
                <a:latin typeface="Georgia"/>
                <a:ea typeface="Aharoni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Georgia"/>
                <a:ea typeface="Aharoni"/>
              </a:rPr>
              <a:t>(Founder, Sinking)</a:t>
            </a:r>
            <a:br>
              <a:rPr sz="2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Georgia"/>
              </a:rPr>
              <a:t>*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It is an inflammation of laminaes of the hoof (sensitive &amp; insensitive laminae) characterized by </a:t>
            </a:r>
            <a:r>
              <a:rPr b="0" i="1" lang="en-US" sz="2000" spc="-1" strike="noStrike">
                <a:solidFill>
                  <a:srgbClr val="ffff00"/>
                </a:solidFill>
                <a:latin typeface="Georgia"/>
              </a:rPr>
              <a:t>passive congestion of the sensitive laminae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 with blood. Commonly affected the forelimbs &amp; rarely the hind lim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Users\User\Pictures\Hoof-1.gif"/>
          <p:cNvPicPr/>
          <p:nvPr/>
        </p:nvPicPr>
        <p:blipFill>
          <a:blip r:embed="rId1"/>
          <a:stretch/>
        </p:blipFill>
        <p:spPr>
          <a:xfrm>
            <a:off x="914400" y="3276720"/>
            <a:ext cx="3686040" cy="271944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pic>
        <p:nvPicPr>
          <p:cNvPr id="215" name="Picture 3" descr="C:\Users\User\Pictures\laminitis-6.jpg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7432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57150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Georgia"/>
                <a:ea typeface="Aharoni"/>
              </a:rPr>
              <a:t>Etiology</a:t>
            </a:r>
            <a:r>
              <a:rPr b="1" lang="en-US" sz="3200" spc="-1" strike="noStrike">
                <a:solidFill>
                  <a:srgbClr val="ff66ff"/>
                </a:solidFill>
                <a:latin typeface="Aharoni"/>
                <a:ea typeface="Aharoni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ffff"/>
                </a:solidFill>
                <a:latin typeface="Georgia"/>
              </a:rPr>
              <a:t>1</a:t>
            </a:r>
            <a:r>
              <a:rPr b="0" i="1" lang="en-US" sz="1600" spc="-1" strike="noStrike">
                <a:solidFill>
                  <a:srgbClr val="29ffff"/>
                </a:solidFill>
                <a:latin typeface="Georgia"/>
              </a:rPr>
              <a:t>. </a:t>
            </a:r>
            <a:r>
              <a:rPr b="0" i="1" lang="en-US" sz="1600" spc="-1" strike="noStrike" u="sng">
                <a:solidFill>
                  <a:srgbClr val="29ffff"/>
                </a:solidFill>
                <a:uFillTx/>
                <a:latin typeface="Georgia"/>
              </a:rPr>
              <a:t>Infectious laminitis</a:t>
            </a:r>
            <a:r>
              <a:rPr b="0" i="1" lang="en-US" sz="1600" spc="-1" strike="noStrike" u="sng">
                <a:solidFill>
                  <a:srgbClr val="29ffff"/>
                </a:solidFill>
                <a:uFillTx/>
                <a:latin typeface="Georgi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Occur due to endotoxin of bacteria, ex (</a:t>
            </a:r>
            <a:r>
              <a:rPr b="0" i="1" lang="en-US" sz="1600" spc="-1" strike="noStrike">
                <a:solidFill>
                  <a:srgbClr val="ff66ff"/>
                </a:solidFill>
                <a:latin typeface="Georgia"/>
              </a:rPr>
              <a:t>Endometritis or retention of                        placenta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ffff"/>
                </a:solidFill>
                <a:latin typeface="Georgia"/>
              </a:rPr>
              <a:t>2</a:t>
            </a:r>
            <a:r>
              <a:rPr b="0" i="1" lang="en-US" sz="1600" spc="-1" strike="noStrike">
                <a:solidFill>
                  <a:srgbClr val="29ffff"/>
                </a:solidFill>
                <a:latin typeface="Georgia"/>
              </a:rPr>
              <a:t>. </a:t>
            </a:r>
            <a:r>
              <a:rPr b="0" i="1" lang="en-US" sz="1600" spc="-1" strike="noStrike" u="sng">
                <a:solidFill>
                  <a:srgbClr val="29ffff"/>
                </a:solidFill>
                <a:uFillTx/>
                <a:latin typeface="Georgia"/>
              </a:rPr>
              <a:t>Non infectious laminitis</a:t>
            </a:r>
            <a:r>
              <a:rPr b="0" i="1" lang="en-US" sz="1600" spc="-1" strike="noStrike" u="sng">
                <a:solidFill>
                  <a:srgbClr val="29ffff"/>
                </a:solidFill>
                <a:uFillTx/>
                <a:latin typeface="Georgi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A. Grain Founder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*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Occur due to ingestion of large amount of grain (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</a:rPr>
              <a:t>Toxic amount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* Grain containing toxin called (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</a:rPr>
              <a:t>Histiden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), which convert into 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</a:rPr>
              <a:t>histamine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by           decarboxy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* Lead to gastroenter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B. Water Founder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*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Occur due to drinking of a large amount of 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cold water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by over heated horse, that will be liberated the histamine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C. Road Founder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Occur due to local trauma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D. Grass founder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Occur due to obesity &amp; ingestion of lush grass pasture (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Alfa Alfa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E. Hormonal causes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Some hormones caused liberation of the histamine, ex (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Estrogen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.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F. Viral respiratory diseas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G. PPID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Pituitary Pars Intermedial dysfunction (</a:t>
            </a:r>
            <a:r>
              <a:rPr b="0" i="1" lang="en-US" sz="1800" spc="-1" strike="noStrike">
                <a:solidFill>
                  <a:srgbClr val="ff66ff"/>
                </a:solidFill>
                <a:latin typeface="Georgia"/>
              </a:rPr>
              <a:t>Equine Cushing's. D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One of the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most common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causes of laminitis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Increased the risk of laminitis in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older horses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range age (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3-15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) Years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Occur due to uncontrolled production of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ACTH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by pituitary gland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rcRect l="0" t="3172" r="0" b="0"/>
          <a:stretch/>
        </p:blipFill>
        <p:spPr>
          <a:xfrm>
            <a:off x="4724280" y="2362320"/>
            <a:ext cx="3846600" cy="310176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221" name="مربع نص 4"/>
          <p:cNvSpPr/>
          <p:nvPr/>
        </p:nvSpPr>
        <p:spPr>
          <a:xfrm>
            <a:off x="4724280" y="56386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Curly hair coat (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Hairsutism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Georgia"/>
                <a:ea typeface="Aharoni"/>
              </a:rPr>
              <a:t>Symptoms</a:t>
            </a:r>
            <a:r>
              <a:rPr b="1" lang="en-US" sz="2800" spc="-1" strike="noStrike">
                <a:solidFill>
                  <a:srgbClr val="ccecff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haroni"/>
                <a:ea typeface="Aharoni"/>
              </a:rPr>
              <a:t>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6483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1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Acute laminiti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A.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Laminitis may be affected either front or all (4) feet's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B.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The animal keeps his fore limbs in front of the body &amp; hind limbs carried up and placed under the abdomen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C.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Animal appeared  great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reluctance to move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. 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Shot stapes stiff movement 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</a:rPr>
              <a:t>like walking over nails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 Walking on the heel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Separation of sensitive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and insensitive laminaes from horny laminae  (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Seedy Toe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) with accumulation of exudation with painful by palpation's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F.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In case of systemic infections, there is increased in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* Body temperature </a:t>
            </a:r>
            <a:r>
              <a:rPr b="0" i="1" lang="en-US" sz="1600" spc="-1" strike="noStrike">
                <a:solidFill>
                  <a:srgbClr val="ff66ff"/>
                </a:solidFill>
                <a:latin typeface="Georgia"/>
              </a:rPr>
              <a:t>(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40-41C</a:t>
            </a:r>
            <a:r>
              <a:rPr b="0" i="1" lang="en-US" sz="1600" spc="-1" strike="noStrike">
                <a:solidFill>
                  <a:srgbClr val="ff66ff"/>
                </a:solidFill>
                <a:latin typeface="Georgia"/>
              </a:rPr>
              <a:t>).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*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Respiratory rate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G.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M.M congestion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ue to toxemia, Increased digital pulsation, trembling of muscles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H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Sever bleeding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(when trimining )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I.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</a:rPr>
              <a:t> </a:t>
            </a: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Death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may occur from acute laminitis (not common)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LAMINITIS4_Pic1"/>
          <p:cNvPicPr/>
          <p:nvPr/>
        </p:nvPicPr>
        <p:blipFill>
          <a:blip r:embed="rId1"/>
          <a:stretch/>
        </p:blipFill>
        <p:spPr>
          <a:xfrm>
            <a:off x="5791320" y="380880"/>
            <a:ext cx="3058920" cy="21877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225" name="Picture 9" descr="IMG_1472"/>
          <p:cNvPicPr/>
          <p:nvPr/>
        </p:nvPicPr>
        <p:blipFill>
          <a:blip r:embed="rId2"/>
          <a:stretch/>
        </p:blipFill>
        <p:spPr>
          <a:xfrm>
            <a:off x="5867280" y="4419720"/>
            <a:ext cx="3048120" cy="218736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226" name="Picture 5" descr="C:\Users\User\Pictures\laminitis.gif"/>
          <p:cNvPicPr/>
          <p:nvPr/>
        </p:nvPicPr>
        <p:blipFill>
          <a:blip r:embed="rId3"/>
          <a:stretch/>
        </p:blipFill>
        <p:spPr>
          <a:xfrm>
            <a:off x="4876920" y="2590920"/>
            <a:ext cx="3276360" cy="220968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sp>
        <p:nvSpPr>
          <p:cNvPr id="227" name="سهم إلى اليمين 6"/>
          <p:cNvSpPr/>
          <p:nvPr/>
        </p:nvSpPr>
        <p:spPr>
          <a:xfrm>
            <a:off x="5956200" y="5715000"/>
            <a:ext cx="596880" cy="1522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4582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2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.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Chronic laminitis</a:t>
            </a:r>
            <a:r>
              <a:rPr b="1" i="1" lang="en-US" sz="2000" spc="-1" strike="noStrike">
                <a:solidFill>
                  <a:srgbClr val="ccecff"/>
                </a:solidFill>
                <a:latin typeface="Georgia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54104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1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Rotation of 3rd phalanx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due to Laminae separation from hoof wall due t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* Weight of anim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* Pulling of 3rd phalanx by DDF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* Ischemia in the insensitive Lamina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(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  <a:ea typeface="SimSun"/>
              </a:rPr>
              <a:t>pressure by congested B.V of sen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eorgia"/>
                <a:ea typeface="SimSun"/>
              </a:rPr>
              <a:t>      </a:t>
            </a:r>
            <a:r>
              <a:rPr b="0" i="1" lang="en-US" sz="1600" spc="-1" strike="noStrike">
                <a:solidFill>
                  <a:srgbClr val="ffff00"/>
                </a:solidFill>
                <a:latin typeface="Georgia"/>
                <a:ea typeface="SimSun"/>
              </a:rPr>
              <a:t>Laminae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* Inflamma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Sinking of  3rd phalanx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Some horses loss the hoof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completely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, (10) days before typical laminitis ring are present (this begin as a crack at the coronary band &amp; extended completely around the wall) Several weeks may elapse before slough of the hoof final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4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. </a:t>
            </a:r>
            <a:r>
              <a:rPr b="1" i="1" lang="en-US" sz="1600" spc="-1" strike="noStrike">
                <a:solidFill>
                  <a:srgbClr val="ff66ff"/>
                </a:solidFill>
                <a:latin typeface="Georgia"/>
                <a:ea typeface="SimSun"/>
              </a:rPr>
              <a:t>Difficult movement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  <a:ea typeface="SimSu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1" descr="IMG_1481"/>
          <p:cNvPicPr/>
          <p:nvPr/>
        </p:nvPicPr>
        <p:blipFill>
          <a:blip r:embed="rId1"/>
          <a:stretch/>
        </p:blipFill>
        <p:spPr>
          <a:xfrm>
            <a:off x="5791320" y="3733920"/>
            <a:ext cx="3047760" cy="236196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231" name="Picture 12" descr="LAMINITIS8_Pic1"/>
          <p:cNvPicPr/>
          <p:nvPr/>
        </p:nvPicPr>
        <p:blipFill>
          <a:blip r:embed="rId2"/>
          <a:stretch/>
        </p:blipFill>
        <p:spPr>
          <a:xfrm>
            <a:off x="5791320" y="838080"/>
            <a:ext cx="3011400" cy="243864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User\Pictures\normal hoof.jpg"/>
          <p:cNvPicPr/>
          <p:nvPr/>
        </p:nvPicPr>
        <p:blipFill>
          <a:blip r:embed="rId1"/>
          <a:stretch/>
        </p:blipFill>
        <p:spPr>
          <a:xfrm>
            <a:off x="457200" y="762120"/>
            <a:ext cx="4114800" cy="2743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3" name="Picture 3" descr="C:\Users\User\Pictures\laminitis-4.jpg"/>
          <p:cNvPicPr/>
          <p:nvPr/>
        </p:nvPicPr>
        <p:blipFill>
          <a:blip r:embed="rId2"/>
          <a:stretch/>
        </p:blipFill>
        <p:spPr>
          <a:xfrm>
            <a:off x="4724280" y="762120"/>
            <a:ext cx="4100760" cy="2743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4" name="Picture 4" descr="C:\Users\User\Pictures\laminitis-5.jpg"/>
          <p:cNvPicPr/>
          <p:nvPr/>
        </p:nvPicPr>
        <p:blipFill>
          <a:blip r:embed="rId3"/>
          <a:stretch/>
        </p:blipFill>
        <p:spPr>
          <a:xfrm>
            <a:off x="2590920" y="3733920"/>
            <a:ext cx="4114800" cy="2743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5" name="سهم إلى اليمين 6"/>
          <p:cNvSpPr/>
          <p:nvPr/>
        </p:nvSpPr>
        <p:spPr>
          <a:xfrm flipH="1">
            <a:off x="5104800" y="5943600"/>
            <a:ext cx="546120" cy="1522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سهم إلى اليمين 7"/>
          <p:cNvSpPr/>
          <p:nvPr/>
        </p:nvSpPr>
        <p:spPr>
          <a:xfrm>
            <a:off x="5486400" y="2590920"/>
            <a:ext cx="596880" cy="1522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مربع نص 8"/>
          <p:cNvSpPr/>
          <p:nvPr/>
        </p:nvSpPr>
        <p:spPr>
          <a:xfrm>
            <a:off x="1001160" y="1066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rmal ho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مربع نص 9"/>
          <p:cNvSpPr/>
          <p:nvPr/>
        </p:nvSpPr>
        <p:spPr>
          <a:xfrm>
            <a:off x="4889160" y="9907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nging phalan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51920" y="53352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5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. 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  <a:ea typeface="SimSun"/>
              </a:rPr>
              <a:t>Abnormal growth of hoof</a:t>
            </a:r>
            <a:r>
              <a:rPr b="0" i="1" lang="en-US" sz="2000" spc="-1" strike="noStrike">
                <a:solidFill>
                  <a:srgbClr val="ff66ff"/>
                </a:solidFill>
                <a:latin typeface="Georgia"/>
                <a:ea typeface="SimSun"/>
              </a:rPr>
              <a:t> (Laminitis ring)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due to irregulatory in production of horny material through the hoof w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6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.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  <a:ea typeface="SimSun"/>
              </a:rPr>
              <a:t>Toe pushed ou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  <a:ea typeface="SimSun"/>
              </a:rPr>
              <a:t>through the sole within 72 h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6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3216240" cy="21862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241" name="Picture 17" descr="IMG_1486"/>
          <p:cNvPicPr/>
          <p:nvPr/>
        </p:nvPicPr>
        <p:blipFill>
          <a:blip r:embed="rId2"/>
          <a:stretch/>
        </p:blipFill>
        <p:spPr>
          <a:xfrm>
            <a:off x="457200" y="4191120"/>
            <a:ext cx="3200400" cy="218736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242" name="سهم إلى اليمين 4"/>
          <p:cNvSpPr/>
          <p:nvPr/>
        </p:nvSpPr>
        <p:spPr>
          <a:xfrm>
            <a:off x="774720" y="5334120"/>
            <a:ext cx="596880" cy="1522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سهم إلى اليمين 5"/>
          <p:cNvSpPr/>
          <p:nvPr/>
        </p:nvSpPr>
        <p:spPr>
          <a:xfrm>
            <a:off x="5334120" y="1447920"/>
            <a:ext cx="596880" cy="1522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C:\Users\User\Pictures\laminitis-3.jpg"/>
          <p:cNvPicPr/>
          <p:nvPr/>
        </p:nvPicPr>
        <p:blipFill>
          <a:blip r:embed="rId3"/>
          <a:stretch/>
        </p:blipFill>
        <p:spPr>
          <a:xfrm>
            <a:off x="5638680" y="2895480"/>
            <a:ext cx="3276720" cy="221004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sp>
        <p:nvSpPr>
          <p:cNvPr id="245" name="سهم إلى اليمين 7"/>
          <p:cNvSpPr/>
          <p:nvPr/>
        </p:nvSpPr>
        <p:spPr>
          <a:xfrm>
            <a:off x="6172200" y="4572000"/>
            <a:ext cx="596880" cy="1522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10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Georgia"/>
              </a:rPr>
              <a:t>Treatment</a:t>
            </a:r>
            <a:r>
              <a:rPr b="1" i="1" lang="en-US" sz="2800" spc="-1" strike="noStrike">
                <a:solidFill>
                  <a:srgbClr val="ff66ff"/>
                </a:solidFill>
                <a:latin typeface="Georgia"/>
              </a:rPr>
              <a:t>          </a:t>
            </a:r>
            <a:r>
              <a:rPr b="1" i="1" lang="en-US" sz="3200" spc="-1" strike="noStrike">
                <a:solidFill>
                  <a:srgbClr val="ccecff"/>
                </a:solidFill>
                <a:latin typeface="Georgia"/>
              </a:rPr>
              <a:t>         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1. Stable res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Put the hoof in cold pack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(water or 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3. Put the animal in soft ground (straw or sand) or inject with acepromazin (0.05-0.1mg/kg) as analges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4.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Bleeding the affected foot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from sole by hoof knife till reaches the sole corium to decrease the level of conges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5.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Removed the causative ag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* Give laxative (mineral oil or purgati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* Injection of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anti-microbial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agent or orally to treated the inf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* Administration of </a:t>
            </a:r>
            <a:r>
              <a:rPr b="1" i="1" lang="en-US" sz="2000" spc="-1" strike="noStrike">
                <a:solidFill>
                  <a:srgbClr val="ff66ff"/>
                </a:solidFill>
                <a:latin typeface="Georgia"/>
              </a:rPr>
              <a:t>antihistaminic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 drug to reduced the effects of histamine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9:02:18Z</dcterms:created>
  <dc:creator>user</dc:creator>
  <dc:description/>
  <dc:language>en-US</dc:language>
  <cp:lastModifiedBy>DR.Ahmed Saker 2O14</cp:lastModifiedBy>
  <dcterms:modified xsi:type="dcterms:W3CDTF">2015-03-23T20:10:53Z</dcterms:modified>
  <cp:revision>42</cp:revision>
  <dc:subject/>
  <dc:title>LAMINITIS: (Founder), (Sinking) It is an inflammation of laminae of the foot (sensitive laminae) Characterized by passive congestion of the laminae with blood, commonly affected the fore limbs &amp; rarely the hind limbs</dc:title>
</cp:coreProperties>
</file>